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6F02-B00C-4750-A2E7-2FBD07E32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0A9-2D13-44E3-9D8F-6D039E07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BB3-71E6-4AF8-B2B0-C19B95D1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6A7-3233-432E-AC2B-815DD1F0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9F5-BE52-41D3-B67B-E91A9108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ADCB-4576-40D8-B5E9-8AA51A9D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51A2-5C50-4DCA-B73C-1FDCD035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0BE4-52CC-4039-A810-66D73AC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6B9-47D6-46C3-B923-1DFF0717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BEEC-F68E-47A7-87A7-96A6AE1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28A-C6BA-47CB-937D-BF76AA2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DCB8-C3BD-44C3-A1FC-051FE12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5D8-64A1-4780-86C7-42A67553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C84-0921-4014-A0B9-8623B14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0A97-46DC-4996-A726-E9DAAC8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CCAD-CA78-4F1C-A94F-195583EB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2172-A09C-4E03-9C2F-2FF9609A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7237-C539-4EB7-AC3F-B4E9FD3E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8BE-CFA0-480A-8F05-E2BB4C6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BED-50B6-4B20-86E6-D2BBE3AC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F24-1C08-45CA-B822-60686BB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FCB-89D5-4E59-91C3-5BF0BC1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775-A1F4-432A-93E4-F411099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4C5-A396-45F7-92B0-6B20FBF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63D-8A3E-4356-A8BD-0896CB9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8BC-AE0E-40F6-8949-DF230322AD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8D1D-326B-4BF6-B12F-F049B81D8C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Multi-Mode Selectable DC-DC Converter for Ultralow Power Circuit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rnie Bowd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ug Sorens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4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32136" b="19629"/>
          <a:stretch/>
        </p:blipFill>
        <p:spPr>
          <a:xfrm>
            <a:off x="2133720" y="2438280"/>
            <a:ext cx="4800600" cy="3587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5760000"/>
            <a:ext cx="8077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 Unicode MS"/>
              </a:rPr>
              <a:t>Quantization effect.  Dashed line represents four voltage sources with dithering.  Lowest energy line is a voltage supply with infinite output values [1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V. Gutnik and A. Chandrakasan, “Embedded Power Supply for Low-Power DSP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”, IEEE Transactions on Very Large Scale Integration (VLSI) Systems,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December 1997, Vol. 5, No. 4, pp 425-436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68600" y="2568600"/>
          <a:ext cx="42321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8600" y="2568600"/>
                    <a:ext cx="4232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19520" y="2438280"/>
          <a:ext cx="29430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38280"/>
                    <a:ext cx="29430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ear Regula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505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on 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174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tage Cur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5023" t="15155" r="7294" b="6753"/>
          <a:stretch/>
        </p:blipFill>
        <p:spPr>
          <a:xfrm>
            <a:off x="1752480" y="2666880"/>
            <a:ext cx="533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ffects of Load Current on Output Voltag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5554" t="15817" r="8152" b="6048"/>
          <a:stretch/>
        </p:blipFill>
        <p:spPr>
          <a:xfrm>
            <a:off x="2133720" y="2438280"/>
            <a:ext cx="49528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witched Capacitor Efficiencies in 65nm PT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7455" t="18529" r="8679" b="6248"/>
          <a:stretch/>
        </p:blipFill>
        <p:spPr>
          <a:xfrm>
            <a:off x="4876920" y="4191120"/>
            <a:ext cx="4114800" cy="23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5101" t="18601" r="7601" b="6735"/>
          <a:stretch/>
        </p:blipFill>
        <p:spPr>
          <a:xfrm>
            <a:off x="914400" y="2514600"/>
            <a:ext cx="3962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56:33Z</dcterms:created>
  <dc:creator>Ernest Bowden</dc:creator>
  <dc:description/>
  <dc:language>en-US</dc:language>
  <cp:lastModifiedBy>Ernest Bowden</cp:lastModifiedBy>
  <dcterms:modified xsi:type="dcterms:W3CDTF">2007-12-04T18:31:53Z</dcterms:modified>
  <cp:revision>8</cp:revision>
  <dc:subject/>
  <dc:title>A Multi-Mode Selectable DC-DC Converter for Ultralow Power Circuits </dc:title>
</cp:coreProperties>
</file>